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6B50-805F-4A76-86E4-79657510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D3D-193B-43DB-BEEE-95420526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BBB-BD33-43CD-BBA1-F1FDF1BD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690-BDC5-4336-9564-B991B942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722-2462-46F4-A911-84D8BE4D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5B4D-0701-43B0-AF7B-112EF757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CAFA-56E3-4432-A168-FB229B0C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F4D8-D880-4BE1-A4FC-DAA72203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1E9E-D402-47D5-9391-A42D51FC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3484-BE3C-4903-9E1A-0D791F2D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8FD-6730-4EFE-A716-F1CB6E80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019-926A-4A9F-9C9A-41D53563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1B58-8F5C-4B8E-9BAF-4DF47FF0F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,M,I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ULIA SCOZZARI &amp; NORA FAULK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capital was Tenochtitlan , it was there because in many g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ed many other tribes and forced them to give them money or tribute that caused a civil w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ivil war is people are fighting between two or more groups in the sam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other tribes as slaves and sacrif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ught down by smallpox carried by the Span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24480" y="609480"/>
            <a:ext cx="1452600" cy="966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1676520" cy="167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96080" y="5618160"/>
            <a:ext cx="144792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uch gold so they weren’t a target for the conquistadors plus they had a bigger city so it was harder to def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so were polytheis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s who could sometimes earn there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9880" y="4952880"/>
            <a:ext cx="2092320" cy="1648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theis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written language, but had spoken langu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sacrifice with animals , and on special occasio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ild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cri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conquistador who explored and found the Azt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ztecs &amp; their leader Montezuma welcomed Cortez thinking he was Quetzalcoat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z took Montezuma hostage, &amp; he was killed in the fight that follow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z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explorer and conquist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hualpa, Incan emperor was kidnapped of held for a large amount of money/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emanded the room to be filled with gold and the emperor would be returned, the Incas used gold and silver as decorations, not mon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gave him the gold but Pizzaro did not free Athualpa and he eventually killed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7" dur="1" fill="hold"/>
                                  <p:tgtEl>
                                    <p:spTgt spid="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most of central and South America &amp; the population of the people in central and South America are Christian &amp; are not polythe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of Aztec, Maya, and Inca culture and traditions have vanished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514600" y="18288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END!!!!!!!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49:32Z</dcterms:created>
  <dc:creator>jklib</dc:creator>
  <dc:description/>
  <dc:language>en-US</dc:language>
  <cp:lastModifiedBy>jklib</cp:lastModifiedBy>
  <dcterms:modified xsi:type="dcterms:W3CDTF">2011-11-28T16:14:47Z</dcterms:modified>
  <cp:revision>5</cp:revision>
  <dc:subject/>
  <dc:title>A,M,I project</dc:title>
</cp:coreProperties>
</file>